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F30-CBF6-4CA8-9F97-9BBF2A38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D02-8A28-4D61-8A92-8CDCA4B4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3CA-7B94-44BF-B8A6-C4734807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22B-D179-4585-9919-5D3AD162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1016-20E6-4872-BB5E-C7E714FB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3AF6-87F0-4418-971B-656AEB0C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16AE-18EF-4A5C-95E8-BC01E25C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A7DB-B7B0-4802-AB8E-A0A84F0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3682-3886-4EC9-AFA2-B6C0A959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131-0B20-4DF1-B8FE-1C3C66BB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254F-13F3-49F5-82A3-B381785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3A1-16DC-49B7-80DE-C9B8AE77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CB5E-9423-4096-9595-7D21CE64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5236-A5AC-447C-A290-1478349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7DB-29FE-4481-A8DD-3A93571E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C857-69CE-479B-8FB5-E37BAD28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15F5-5733-400A-94D9-7C2E20E9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F8D-6A13-45CA-8621-3751CC2A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B68-39C1-42CA-A0B2-A6F5D8E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CCA-18BD-448F-9034-7EF8E4E1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9E6-A3B4-4804-AEE0-D90C9AB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E42-DE7D-43D5-8821-30AB2BE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32B-AB81-4877-AECF-2EC77DFB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A42-C8A8-4BCB-88F1-F9092BE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943-3856-4FE9-A70B-C7F4A0D2CCE7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FCD-3CAD-4078-A3A3-6C12CEAA3A0A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Frankenstei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Ethical dilemma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Ethical dilemm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chin"/>
              </a:rPr>
              <a:t>What are ethical dilemma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A situation with a conflict that has two (or more) morally different ways/cho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Examples of ethical dilemm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an be big issues like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Abor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Wars - killing innocent people to get to the bad guy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Cloning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Can be small issues like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Telling a small lie or being unki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chin"/>
              </a:rPr>
              <a:t>Making choices between your friend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chin"/>
              </a:rPr>
              <a:t>Frankenstein’s ethical dilemma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Is it acceptable to create a living creature from leftover human parts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chin"/>
              </a:rPr>
              <a:t>Is it acceptable to allow a beast to join society or to kill the beast who has human qualities?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37:37Z</dcterms:created>
  <dc:creator>nps</dc:creator>
  <dc:description/>
  <dc:language>en-US</dc:language>
  <cp:lastModifiedBy>nps</cp:lastModifiedBy>
  <dcterms:modified xsi:type="dcterms:W3CDTF">2011-10-18T15:49:44Z</dcterms:modified>
  <cp:revision>1</cp:revision>
  <dc:subject/>
  <dc:title>Frankenstein</dc:title>
</cp:coreProperties>
</file>